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BE01-6F46-403B-A48B-C462859BA6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1C26-D0F3-4B8B-A178-083290064C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A07C-6256-4ED4-AA6F-7334C0AEE5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4B56-0875-429C-85D5-9D8AEC2DF9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CD91-6889-44E9-B945-5007CE87F5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0211-7D23-48CC-9B93-C27C7DFB97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3C49-421C-45EF-95E1-BE3959CE6E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A613-BBB3-4AE1-95DF-03EB1B768F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E27A-6E87-472D-A412-03BBC78703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DAA3-196D-4EFF-B494-08D126CE8E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E1FC-C7C8-4828-A277-9D8C5A3B3B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66C4-2D2C-4D29-8F97-2F51C30227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998A-49CE-4EAF-B7C3-358C8A3B52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8AD6-4CE8-49D8-951A-141F0708BB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BF8C-72E4-4597-8115-C8E2D7BCDB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C166-9220-4D8B-B5EA-AFB81F1FD3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4DD9-FC14-4722-8506-042A08CE8A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4BEC-6DA4-4E0F-BEA3-CC919F95B2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C943-C420-46AD-9AC1-7038A93F5E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87F9-30F2-4B56-8B04-A45CC13FE2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9A0F-0AB1-4A64-8273-015062D486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D8BE-B77A-4285-BA16-F13B2D16FA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EE8A-E525-4395-BDA4-A714E4DE3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10CF-9BE5-4144-80DA-747563CE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00C3-F690-45F1-A9BF-D44B3B2C5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1452-0970-4CA1-A94C-CF20624E6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DF64-E65E-4C81-9BB5-5EC73CBE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0FDD-72C0-4E3A-A12E-AD9E01A9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2D02-5D17-4DE2-AEF7-0335CD3C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A74F-490B-44EB-9360-C333CED0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AB3F-DB95-427D-A5A0-E167A289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0CD6-D9C2-40FE-97C7-25B51110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0659-0C8A-4836-A55B-A5F27349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0EAC-4386-41C7-A083-08F51A0D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C259-C637-4759-8737-15ED5D30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A709-2753-4456-A77F-F69460BB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945E-72FE-460C-9581-BA98986E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26C7-8AF0-446B-BEF1-5589FB1B0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2A87-7303-48D8-B17D-52B73B5A7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9344C3-C950-4E4A-AE4F-3E020BFA9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38F05D-E20E-49E1-A2EC-59AB85D4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63E208-EF81-4967-A527-FBA249B7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E73A25-2C3F-42EB-930D-161D5591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459B89-3681-423D-AF39-3DD2DA70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BE06-6089-43B9-99FF-2C4F13C6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6B9542-B98C-4A12-90B3-61CA8B7C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B80BA2-5DFE-4431-A9A4-6EBD76EA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D4561C-B86B-4651-96F4-B7B44F75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0163AC-176A-44C9-B791-771CD604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3FCFD5-70CF-4F2D-A037-449E28FB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804894-70F5-4028-97A6-3C81B45B4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79892C-6338-4AC3-8475-9708C62F2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62B306-EE70-4C8C-9080-D0DEE2559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AFE51F-03AA-400F-96DD-81F2E2E6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ACE8D4-9352-4654-BF0E-E46FD3F1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2FC3-984E-42BE-92CB-46F5D913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ED154E-A8E3-44E7-BB24-3E7D1CC6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E20950-1542-45B7-A930-03871B40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CCBE5B-5AB3-44B9-B8B1-369326A3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D5F8CB-A4C8-4E94-BA13-CF2E4164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C50551-C2A8-4D72-A85B-433BD4FF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EC4134-FFC2-4E7C-B782-5153057B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EFBCC3-6195-48E6-BF76-F2891F6B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18100F-C13E-4C04-9926-9AE898284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39452A-038A-474D-8F76-AEA8A7508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44944B-0EFF-4587-BF71-A22D6506E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15D6-7E65-4E82-9E7A-BA2649D8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13E357-D6B0-4285-B4D5-F555D6CB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C156DB-5AA8-481C-BF7D-452B9DA4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925C81-CC13-4D1E-A414-868B052C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17B56B-7462-4428-A91C-B2664FB9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CBE1A4-4C8D-4327-80A4-8282C44F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B9B9F7-FAE5-461F-88F3-502F892C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D6B583-6506-483E-8278-6FBB0598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F75C70-3503-429E-BB56-95774F0C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43C492-F8E3-4EC0-AA10-76523F39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F7C82A-41BF-48F0-AD85-531C29FAD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BF9C-6F96-4249-B66D-2C733BAA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DC3A73-825C-48EC-B88D-3CB616CBF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0BFCF-079E-427B-94A7-61F4DE581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DDBC9-6198-427F-B545-021A9AD1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DFDE0-FC87-4473-B3D6-7E8D1E80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28239-F298-42BD-AF4D-E1C8E24D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D6149-B7BD-40EB-9A44-5388CEC6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D443E-9194-427E-9DAA-37AD3919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FA3E1-A7D4-4A1B-91B3-C9770F47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493C1-B046-45AD-B6BB-40C3C28D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BF66B-5C32-43A8-80AA-45DC97EA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F290-DC42-4280-9AEA-E8FAC78F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228FE-91E0-45F7-A4F4-1645E41C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C5DB4-FCF1-4099-9E20-94E0DB5CE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1F77A-870E-41F0-94CA-32616E4FF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9B691C-0D3B-4039-A5BE-8A0B2322C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0CBAC5-314B-44FB-8ACC-175F5BE5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CE57E7-A92E-4353-834A-110E674B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BF047F-288C-45B8-BE34-BE3087B2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F09878-3AD9-4B66-A735-A02A818F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A55990-989C-476A-8A33-18EBAE7C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BBC720-27F4-4F43-ADC5-C100920B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9669-558F-4870-B23B-9A778BF4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3DB3B2-BFB6-4676-90BA-5A3EBF10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34B217-7B87-4191-91B9-7EE37E19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6039FB-A7A9-4A38-8968-CCAC40D4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3CEB4E-8C16-442B-A7E0-FA2E3945D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2CFEAE-0119-479F-B520-04275FEE7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10330-4E1F-408B-AD3C-BB167348C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8584B-D404-41D7-A970-FD760415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843EE-7D66-4C42-B6CF-F06730C2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736AB-08AF-41FD-889C-8FCE0140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8512E-5B55-4DA4-A583-DEE58FB2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5127-3120-4EE6-9254-004A92E8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FF363-7959-417A-B157-CB1C8474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375D6-4800-4AC5-B4CB-B074F9AE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C3D98-6B66-44EA-AFEC-229FA7FC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4880B-3FE5-453C-B95C-F7CBD339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8D8FF-7BB8-4E3F-9EDA-8EBC59CC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CE437-F145-4866-8986-1C2075AAC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EBCAE-5E4B-4D6E-AB8C-083FE7D46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C58F-A131-44BF-BCA8-13FA9446244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BEEB-6953-433A-8499-74131C9EB04A}" type="slidenum"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F6CA-E2D9-4A7F-B6C6-DF7BB3DC26F3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0682-178C-414F-BD5C-E2509259503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97BB-C77E-4817-8525-83E856CFD8D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76D1-EF53-451E-B0E8-ABAD53633BF1}" type="slidenum"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07ED-25DB-41F3-8BBC-7EC0F0F847F6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392B-F4C9-46B5-9722-0030630AFED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1920" y="4038480"/>
            <a:ext cx="8991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Tw Cen MT"/>
              </a:rPr>
              <a:t>10. SATELLITE COMMUNICATION &amp; RADAR SENSORS</a:t>
            </a:r>
            <a:endParaRPr b="0" lang="en-US" sz="32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9" name="TextBox 4"/>
          <p:cNvSpPr/>
          <p:nvPr/>
        </p:nvSpPr>
        <p:spPr>
          <a:xfrm>
            <a:off x="2142720" y="6172200"/>
            <a:ext cx="7305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pplied EM by Ulaby, Michielssen and Ravaioli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647640" y="228600"/>
            <a:ext cx="784872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Radar Sensor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9" name="TextBox 3"/>
          <p:cNvSpPr/>
          <p:nvPr/>
        </p:nvSpPr>
        <p:spPr>
          <a:xfrm>
            <a:off x="1828800" y="5638680"/>
            <a:ext cx="5486400" cy="1313640"/>
          </a:xfrm>
          <a:prstGeom prst="rect">
            <a:avLst/>
          </a:prstGeom>
          <a:solidFill>
            <a:srgbClr val="ffffff"/>
          </a:solidFill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e term </a:t>
            </a:r>
            <a:r>
              <a:rPr b="1" i="1" lang="en-US" sz="2000" spc="-1" strike="noStrike">
                <a:solidFill>
                  <a:srgbClr val="ff0000"/>
                </a:solidFill>
                <a:latin typeface="Tw Cen MT"/>
              </a:rPr>
              <a:t>radar</a:t>
            </a:r>
            <a:r>
              <a:rPr b="1" i="1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s a contracted form of the phrase </a:t>
            </a:r>
            <a:r>
              <a:rPr b="1" i="1" lang="en-US" sz="2000" spc="-1" strike="noStrike">
                <a:solidFill>
                  <a:srgbClr val="ff0000"/>
                </a:solidFill>
                <a:latin typeface="Tw Cen MT"/>
              </a:rPr>
              <a:t>radio detection and ranging</a:t>
            </a:r>
            <a:r>
              <a:rPr b="1" i="1" lang="en-US" sz="20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which conveys some, but not all, of the features of a modern radar syste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0" name="Picture 2" descr=""/>
          <p:cNvPicPr/>
          <p:nvPr/>
        </p:nvPicPr>
        <p:blipFill>
          <a:blip r:embed="rId1"/>
          <a:stretch/>
        </p:blipFill>
        <p:spPr>
          <a:xfrm>
            <a:off x="495360" y="1593720"/>
            <a:ext cx="8307360" cy="37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3" descr=""/>
          <p:cNvPicPr/>
          <p:nvPr/>
        </p:nvPicPr>
        <p:blipFill>
          <a:blip r:embed="rId1"/>
          <a:stretch/>
        </p:blipFill>
        <p:spPr>
          <a:xfrm>
            <a:off x="3657600" y="1892160"/>
            <a:ext cx="5243400" cy="31370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Unambiguous Range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3" name="TextBox 3"/>
          <p:cNvSpPr/>
          <p:nvPr/>
        </p:nvSpPr>
        <p:spPr>
          <a:xfrm>
            <a:off x="304920" y="1523880"/>
            <a:ext cx="419076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Tw Cen MT"/>
              </a:rPr>
              <a:t>The range </a:t>
            </a:r>
            <a:r>
              <a:rPr b="0" i="1" lang="en-US" sz="2000" spc="-1" strike="noStrike">
                <a:solidFill>
                  <a:srgbClr val="4f81bd"/>
                </a:solidFill>
                <a:latin typeface="Tw Cen MT"/>
              </a:rPr>
              <a:t>R</a:t>
            </a:r>
            <a:r>
              <a:rPr b="0" lang="en-US" sz="2000" spc="-1" strike="noStrike" baseline="-25000">
                <a:solidFill>
                  <a:srgbClr val="4f81bd"/>
                </a:solidFill>
                <a:latin typeface="Tw Cen MT"/>
              </a:rPr>
              <a:t>u</a:t>
            </a:r>
            <a:r>
              <a:rPr b="0" i="1" lang="en-US" sz="2000" spc="-1" strike="noStrike">
                <a:solidFill>
                  <a:srgbClr val="4f81bd"/>
                </a:solidFill>
                <a:latin typeface="Tw Cen MT"/>
              </a:rPr>
              <a:t> corresponds to the </a:t>
            </a:r>
            <a:r>
              <a:rPr b="0" i="1" lang="en-US" sz="2000" spc="-1" strike="noStrike">
                <a:solidFill>
                  <a:srgbClr val="ff0000"/>
                </a:solidFill>
                <a:latin typeface="Tw Cen MT"/>
              </a:rPr>
              <a:t>maximum range </a:t>
            </a:r>
            <a:r>
              <a:rPr b="0" i="1" lang="en-US" sz="2000" spc="-1" strike="noStrike">
                <a:solidFill>
                  <a:srgbClr val="4f81bd"/>
                </a:solidFill>
                <a:latin typeface="Tw Cen MT"/>
              </a:rPr>
              <a:t>that a targe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Tw Cen MT"/>
              </a:rPr>
              <a:t>can have such that its echo is received before the transmiss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Tw Cen MT"/>
              </a:rPr>
              <a:t>of the next puls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2"/>
          <a:stretch/>
        </p:blipFill>
        <p:spPr>
          <a:xfrm>
            <a:off x="304920" y="3809880"/>
            <a:ext cx="281448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Range Resolution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6" name="TextBox 4"/>
          <p:cNvSpPr/>
          <p:nvPr/>
        </p:nvSpPr>
        <p:spPr>
          <a:xfrm>
            <a:off x="-510120" y="1676520"/>
            <a:ext cx="852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Tw Cen MT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Tw Cen MT"/>
              </a:rPr>
              <a:t>range resolution </a:t>
            </a:r>
            <a:r>
              <a:rPr b="0" lang="en-US" sz="2400" spc="-1" strike="noStrike">
                <a:solidFill>
                  <a:srgbClr val="4f81bd"/>
                </a:solidFill>
                <a:latin typeface="Tw Cen MT"/>
              </a:rPr>
              <a:t>of the radar, ∆</a:t>
            </a:r>
            <a:r>
              <a:rPr b="0" i="1" lang="en-US" sz="2400" spc="-1" strike="noStrike">
                <a:solidFill>
                  <a:srgbClr val="4f81bd"/>
                </a:solidFill>
                <a:latin typeface="Tw Cen MT"/>
              </a:rPr>
              <a:t>R,</a:t>
            </a:r>
            <a:r>
              <a:rPr b="0" lang="en-US" sz="2400" spc="-1" strike="noStrike">
                <a:solidFill>
                  <a:srgbClr val="4f81bd"/>
                </a:solidFill>
                <a:latin typeface="Tw Cen MT"/>
              </a:rPr>
              <a:t> is defined as th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Tw Cen MT"/>
              </a:rPr>
              <a:t>minimum spacing between two targets necessary to avoi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Tw Cen MT"/>
              </a:rPr>
              <a:t>overlap between the echoes from the two target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TextBox 7"/>
          <p:cNvSpPr/>
          <p:nvPr/>
        </p:nvSpPr>
        <p:spPr>
          <a:xfrm>
            <a:off x="-199440" y="4267080"/>
            <a:ext cx="3660120" cy="70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For a pulse length of 1 ns,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the range resolution is 15 c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380880" y="3200400"/>
            <a:ext cx="3429000" cy="4968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"/>
          <p:cNvPicPr/>
          <p:nvPr/>
        </p:nvPicPr>
        <p:blipFill>
          <a:blip r:embed="rId2"/>
          <a:stretch/>
        </p:blipFill>
        <p:spPr>
          <a:xfrm>
            <a:off x="3244680" y="3959280"/>
            <a:ext cx="582300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Azimuth Resolution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1"/>
          <a:stretch/>
        </p:blipFill>
        <p:spPr>
          <a:xfrm>
            <a:off x="495360" y="2013120"/>
            <a:ext cx="8153280" cy="33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-7632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The Problem with Noise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3" name="TextBox 3"/>
          <p:cNvSpPr/>
          <p:nvPr/>
        </p:nvSpPr>
        <p:spPr>
          <a:xfrm>
            <a:off x="304920" y="4876920"/>
            <a:ext cx="8534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Tw Cen MT"/>
              </a:rPr>
              <a:t>For </a:t>
            </a: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threshold detection level 1 </a:t>
            </a:r>
            <a:r>
              <a:rPr b="0" lang="en-US" sz="2000" spc="-1" strike="noStrike">
                <a:solidFill>
                  <a:srgbClr val="4f81bd"/>
                </a:solidFill>
                <a:latin typeface="Tw Cen MT"/>
              </a:rPr>
              <a:t>indicated in Fig. 10-13, the radar will produce the presence of both targets, but it will also detect a </a:t>
            </a:r>
            <a:r>
              <a:rPr b="1" i="1" lang="en-US" sz="2000" spc="-1" strike="noStrike">
                <a:solidFill>
                  <a:srgbClr val="ff0000"/>
                </a:solidFill>
                <a:latin typeface="Tw Cen MT"/>
              </a:rPr>
              <a:t>false alarm</a:t>
            </a:r>
            <a:r>
              <a:rPr b="1" i="1" lang="en-US" sz="2000" spc="-1" strike="noStrike">
                <a:solidFill>
                  <a:srgbClr val="4f81bd"/>
                </a:solidFill>
                <a:latin typeface="Tw Cen MT"/>
              </a:rPr>
              <a:t>.  </a:t>
            </a:r>
            <a:r>
              <a:rPr b="0" lang="en-US" sz="2000" spc="-1" strike="noStrike">
                <a:solidFill>
                  <a:srgbClr val="4f81bd"/>
                </a:solidFill>
                <a:latin typeface="Tw Cen MT"/>
              </a:rPr>
              <a:t>The</a:t>
            </a:r>
            <a:r>
              <a:rPr b="1" i="1" lang="en-US" sz="2000" spc="-1" strike="noStrike">
                <a:solidFill>
                  <a:srgbClr val="4f81bd"/>
                </a:solidFill>
                <a:latin typeface="Tw Cen MT"/>
              </a:rPr>
              <a:t> </a:t>
            </a:r>
            <a:r>
              <a:rPr b="0" lang="en-US" sz="2000" spc="-1" strike="noStrike">
                <a:solidFill>
                  <a:srgbClr val="4f81bd"/>
                </a:solidFill>
                <a:latin typeface="Tw Cen MT"/>
              </a:rPr>
              <a:t>chance of this occurring is called the </a:t>
            </a:r>
            <a:r>
              <a:rPr b="1" i="1" lang="en-US" sz="2000" spc="-1" strike="noStrike">
                <a:solidFill>
                  <a:srgbClr val="ff0000"/>
                </a:solidFill>
                <a:latin typeface="Tw Cen MT"/>
              </a:rPr>
              <a:t>false-alarm probability</a:t>
            </a:r>
            <a:r>
              <a:rPr b="1" i="1" lang="en-US" sz="2000" spc="-1" strike="noStrike">
                <a:solidFill>
                  <a:srgbClr val="4f81bd"/>
                </a:solidFill>
                <a:latin typeface="Tw Cen MT"/>
              </a:rPr>
              <a:t>.  </a:t>
            </a:r>
            <a:r>
              <a:rPr b="0" lang="en-US" sz="2000" spc="-1" strike="noStrike">
                <a:solidFill>
                  <a:srgbClr val="4f81bd"/>
                </a:solidFill>
                <a:latin typeface="Tw Cen MT"/>
              </a:rPr>
              <a:t>On the other hand, if the threshold detection level is raised to </a:t>
            </a: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level 2</a:t>
            </a:r>
            <a:r>
              <a:rPr b="0" lang="en-US" sz="2000" spc="-1" strike="noStrike">
                <a:solidFill>
                  <a:srgbClr val="4f81bd"/>
                </a:solidFill>
                <a:latin typeface="Tw Cen MT"/>
              </a:rPr>
              <a:t> to avoid the false alarm, the radar will not detect the presence of the first target.  A radar’s ability to detect the presence of a target is characterized by a </a:t>
            </a:r>
            <a:r>
              <a:rPr b="1" i="1" lang="en-US" sz="2000" spc="-1" strike="noStrike">
                <a:solidFill>
                  <a:srgbClr val="ff0000"/>
                </a:solidFill>
                <a:latin typeface="Tw Cen MT"/>
              </a:rPr>
              <a:t>detection probability</a:t>
            </a:r>
            <a:r>
              <a:rPr b="1" i="1" lang="en-US" sz="20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4" name="Picture 2" descr=""/>
          <p:cNvPicPr/>
          <p:nvPr/>
        </p:nvPicPr>
        <p:blipFill>
          <a:blip r:embed="rId1"/>
          <a:stretch/>
        </p:blipFill>
        <p:spPr>
          <a:xfrm>
            <a:off x="495360" y="762120"/>
            <a:ext cx="815328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3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6248520" cy="223524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Maximum Detectable Range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7" name="TextBox 6"/>
          <p:cNvSpPr/>
          <p:nvPr/>
        </p:nvSpPr>
        <p:spPr>
          <a:xfrm>
            <a:off x="0" y="3352680"/>
            <a:ext cx="6400800" cy="20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4f81bd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Tw Cen MT"/>
              </a:rPr>
              <a:t>Through probability calculations, one can specify the </a:t>
            </a: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minimum signal-to-noise ratio</a:t>
            </a:r>
            <a:r>
              <a:rPr b="0" lang="en-US" sz="2000" spc="-1" strike="noStrike">
                <a:solidFill>
                  <a:srgbClr val="4f81bd"/>
                </a:solidFill>
                <a:latin typeface="Tw Cen MT"/>
              </a:rPr>
              <a:t> </a:t>
            </a:r>
            <a:r>
              <a:rPr b="0" i="1" lang="en-US" sz="2000" spc="-1" strike="noStrike">
                <a:solidFill>
                  <a:srgbClr val="4f81bd"/>
                </a:solidFill>
                <a:latin typeface="Tw Cen MT"/>
              </a:rPr>
              <a:t>S</a:t>
            </a:r>
            <a:r>
              <a:rPr b="0" lang="en-US" sz="2000" spc="-1" strike="noStrike" baseline="-25000">
                <a:solidFill>
                  <a:srgbClr val="4f81bd"/>
                </a:solidFill>
                <a:latin typeface="Tw Cen MT"/>
              </a:rPr>
              <a:t>min</a:t>
            </a:r>
            <a:r>
              <a:rPr b="0" lang="en-US" sz="2000" spc="-1" strike="noStrike">
                <a:solidFill>
                  <a:srgbClr val="4f81bd"/>
                </a:solidFill>
                <a:latin typeface="Tw Cen MT"/>
              </a:rPr>
              <a:t> required to assure a desired </a:t>
            </a: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probability of detection</a:t>
            </a:r>
            <a:r>
              <a:rPr b="0" lang="en-US" sz="2000" spc="-1" strike="noStrike">
                <a:solidFill>
                  <a:srgbClr val="4f81bd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buClr>
                <a:srgbClr val="4f81bd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buClr>
                <a:srgbClr val="4f81bd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Tw Cen MT"/>
              </a:rPr>
              <a:t>The corresponding </a:t>
            </a: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maximum detectable range </a:t>
            </a:r>
            <a:r>
              <a:rPr b="0" lang="en-US" sz="2000" spc="-1" strike="noStrike">
                <a:solidFill>
                  <a:srgbClr val="4f81bd"/>
                </a:solidFill>
                <a:latin typeface="Tw Cen MT"/>
              </a:rPr>
              <a:t>is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TextBox 7"/>
          <p:cNvSpPr/>
          <p:nvPr/>
        </p:nvSpPr>
        <p:spPr>
          <a:xfrm>
            <a:off x="380880" y="4572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TextBox 8"/>
          <p:cNvSpPr/>
          <p:nvPr/>
        </p:nvSpPr>
        <p:spPr>
          <a:xfrm>
            <a:off x="4876920" y="5029200"/>
            <a:ext cx="419076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w Cen MT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= radar cross section of targe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w Cen MT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=  Boltzmann’s constan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w Cen MT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w Cen MT"/>
              </a:rPr>
              <a:t>sys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= system noise temperature of receive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0" name="Picture 9" descr="sig.tiff"/>
          <p:cNvPicPr/>
          <p:nvPr/>
        </p:nvPicPr>
        <p:blipFill>
          <a:blip r:embed="rId2"/>
          <a:stretch/>
        </p:blipFill>
        <p:spPr>
          <a:xfrm>
            <a:off x="5486400" y="4724280"/>
            <a:ext cx="304920" cy="2714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"/>
          <p:cNvPicPr/>
          <p:nvPr/>
        </p:nvPicPr>
        <p:blipFill>
          <a:blip r:embed="rId3"/>
          <a:stretch/>
        </p:blipFill>
        <p:spPr>
          <a:xfrm>
            <a:off x="609480" y="5148360"/>
            <a:ext cx="400536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Doppler Effec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4194000" y="109440"/>
            <a:ext cx="4340520" cy="66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Doppler Radar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5" name="TextBox 6"/>
          <p:cNvSpPr/>
          <p:nvPr/>
        </p:nvSpPr>
        <p:spPr>
          <a:xfrm>
            <a:off x="762120" y="5486400"/>
            <a:ext cx="1218960" cy="119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Frequency of received signal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TextBox 8"/>
          <p:cNvSpPr/>
          <p:nvPr/>
        </p:nvSpPr>
        <p:spPr>
          <a:xfrm>
            <a:off x="2209680" y="5486400"/>
            <a:ext cx="1447920" cy="119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Frequency of transmitted signal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TextBox 9"/>
          <p:cNvSpPr/>
          <p:nvPr/>
        </p:nvSpPr>
        <p:spPr>
          <a:xfrm>
            <a:off x="4343400" y="5181480"/>
            <a:ext cx="18288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Doppler frequency shif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428" name="Straight Arrow Connector 11"/>
          <p:cNvCxnSpPr/>
          <p:nvPr/>
        </p:nvCxnSpPr>
        <p:spPr>
          <a:xfrm flipV="1">
            <a:off x="1827360" y="5029920"/>
            <a:ext cx="2160" cy="381960"/>
          </a:xfrm>
          <a:prstGeom prst="straightConnector1">
            <a:avLst/>
          </a:prstGeom>
          <a:ln w="1908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29" name="Straight Arrow Connector 13"/>
          <p:cNvCxnSpPr/>
          <p:nvPr/>
        </p:nvCxnSpPr>
        <p:spPr>
          <a:xfrm flipV="1">
            <a:off x="2664360" y="5029920"/>
            <a:ext cx="3960" cy="305640"/>
          </a:xfrm>
          <a:prstGeom prst="straightConnector1">
            <a:avLst/>
          </a:prstGeom>
          <a:ln w="1908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430" name="Straight Arrow Connector 15"/>
          <p:cNvCxnSpPr/>
          <p:nvPr/>
        </p:nvCxnSpPr>
        <p:spPr>
          <a:xfrm flipH="1" flipV="1">
            <a:off x="3580560" y="4952160"/>
            <a:ext cx="686520" cy="305640"/>
          </a:xfrm>
          <a:prstGeom prst="straightConnector1">
            <a:avLst/>
          </a:prstGeom>
          <a:ln w="19080">
            <a:solidFill>
              <a:srgbClr val="4f81bd"/>
            </a:solidFill>
            <a:miter/>
            <a:tailEnd len="med" type="arrow" w="med"/>
          </a:ln>
        </p:spPr>
      </p:cxnSp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495360" y="1755720"/>
            <a:ext cx="8153280" cy="23558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" descr=""/>
          <p:cNvPicPr/>
          <p:nvPr/>
        </p:nvPicPr>
        <p:blipFill>
          <a:blip r:embed="rId2"/>
          <a:stretch/>
        </p:blipFill>
        <p:spPr>
          <a:xfrm>
            <a:off x="1604880" y="4572000"/>
            <a:ext cx="197640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4572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Doppler Frequency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304920" y="3200400"/>
            <a:ext cx="3276360" cy="8082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" descr=""/>
          <p:cNvPicPr/>
          <p:nvPr/>
        </p:nvPicPr>
        <p:blipFill>
          <a:blip r:embed="rId2"/>
          <a:stretch/>
        </p:blipFill>
        <p:spPr>
          <a:xfrm>
            <a:off x="4456080" y="227160"/>
            <a:ext cx="4687920" cy="65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4343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Monopulse Radar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7" name="TextBox 3"/>
          <p:cNvSpPr/>
          <p:nvPr/>
        </p:nvSpPr>
        <p:spPr>
          <a:xfrm>
            <a:off x="76320" y="1676520"/>
            <a:ext cx="4647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Tw Cen MT"/>
              </a:rPr>
              <a:t>On the basis of information extracted from the echo due t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Tw Cen MT"/>
              </a:rPr>
              <a:t>a single pulse, a </a:t>
            </a:r>
            <a:r>
              <a:rPr b="1" i="1" lang="en-US" sz="2400" spc="-1" strike="noStrike">
                <a:solidFill>
                  <a:srgbClr val="ff0000"/>
                </a:solidFill>
                <a:latin typeface="Tw Cen MT"/>
              </a:rPr>
              <a:t>monopulse radar can track the direction </a:t>
            </a:r>
            <a:r>
              <a:rPr b="0" lang="en-US" sz="2400" spc="-1" strike="noStrike">
                <a:solidFill>
                  <a:srgbClr val="4f81bd"/>
                </a:solidFill>
                <a:latin typeface="Tw Cen MT"/>
              </a:rPr>
              <a:t>of a target with an angular accuracy equal to a fraction of its antenna beamwidth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TextBox 7"/>
          <p:cNvSpPr/>
          <p:nvPr/>
        </p:nvSpPr>
        <p:spPr>
          <a:xfrm>
            <a:off x="228600" y="4572000"/>
            <a:ext cx="4876920" cy="1313640"/>
          </a:xfrm>
          <a:prstGeom prst="rect">
            <a:avLst/>
          </a:prstGeom>
          <a:solidFill>
            <a:srgbClr val="ffffff"/>
          </a:solidFill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The phasing network is used to combine the backscattered signal in various ways so as to enhance vertical and horizontal resolution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9" name="Picture 2" descr=""/>
          <p:cNvPicPr/>
          <p:nvPr/>
        </p:nvPicPr>
        <p:blipFill>
          <a:blip r:embed="rId1"/>
          <a:stretch/>
        </p:blipFill>
        <p:spPr>
          <a:xfrm>
            <a:off x="5257800" y="457200"/>
            <a:ext cx="3849840" cy="63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Overview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149400" y="1639800"/>
            <a:ext cx="884520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Monopulse Basic Concep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190440" y="1743120"/>
            <a:ext cx="876312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Summary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12600" y="1639800"/>
            <a:ext cx="9118800" cy="48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Geosynchronous Satellite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4" name="TextBox 3"/>
          <p:cNvSpPr/>
          <p:nvPr/>
        </p:nvSpPr>
        <p:spPr>
          <a:xfrm>
            <a:off x="276840" y="59436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TextBox 5"/>
          <p:cNvSpPr/>
          <p:nvPr/>
        </p:nvSpPr>
        <p:spPr>
          <a:xfrm>
            <a:off x="533520" y="1752480"/>
            <a:ext cx="4190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To remain in sync with Earth’s rotation, a satellite has to be at an orbital altitude of 35,786 km above the Earth’s equator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TextBox 6"/>
          <p:cNvSpPr/>
          <p:nvPr/>
        </p:nvSpPr>
        <p:spPr>
          <a:xfrm>
            <a:off x="685800" y="472428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Three geosynchronous satellites are sufficient to cover the entire globe (up to 81◦ of latitude on either side of the equator)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5788080" y="1066680"/>
            <a:ext cx="30700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75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Geosynchronous Orbi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9" name="TextBox 5"/>
          <p:cNvSpPr/>
          <p:nvPr/>
        </p:nvSpPr>
        <p:spPr>
          <a:xfrm>
            <a:off x="100440" y="4419720"/>
            <a:ext cx="2398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Gravitational forc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w Cen M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(attractive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TextBox 6"/>
          <p:cNvSpPr/>
          <p:nvPr/>
        </p:nvSpPr>
        <p:spPr>
          <a:xfrm>
            <a:off x="228600" y="5181480"/>
            <a:ext cx="20732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Centrifugal forc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w Cen M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(repulsive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TextBox 8"/>
          <p:cNvSpPr/>
          <p:nvPr/>
        </p:nvSpPr>
        <p:spPr>
          <a:xfrm>
            <a:off x="152280" y="60199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w Cen MT"/>
              </a:rPr>
              <a:t>Equating them leads to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TextBox 9"/>
          <p:cNvSpPr/>
          <p:nvPr/>
        </p:nvSpPr>
        <p:spPr>
          <a:xfrm>
            <a:off x="5504400" y="51055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TextBox 10"/>
          <p:cNvSpPr/>
          <p:nvPr/>
        </p:nvSpPr>
        <p:spPr>
          <a:xfrm>
            <a:off x="4648320" y="4343400"/>
            <a:ext cx="4495680" cy="1618560"/>
          </a:xfrm>
          <a:prstGeom prst="rect">
            <a:avLst/>
          </a:prstGeom>
          <a:solidFill>
            <a:srgbClr val="ffffff"/>
          </a:solidFill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tting </a:t>
            </a: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= 23 hours, 56 minutes, and 4.1 seconds, and subtracting 6,378 km for Earth’s mean radius at the equator gives an altitude of </a:t>
            </a: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h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= 35, 786 km above Earth’s surfac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76320" y="1000080"/>
            <a:ext cx="8991360" cy="31147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"/>
          <p:cNvPicPr/>
          <p:nvPr/>
        </p:nvPicPr>
        <p:blipFill>
          <a:blip r:embed="rId2"/>
          <a:stretch/>
        </p:blipFill>
        <p:spPr>
          <a:xfrm>
            <a:off x="2309760" y="4282920"/>
            <a:ext cx="2262240" cy="13622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"/>
          <p:cNvPicPr/>
          <p:nvPr/>
        </p:nvPicPr>
        <p:blipFill>
          <a:blip r:embed="rId3"/>
          <a:stretch/>
        </p:blipFill>
        <p:spPr>
          <a:xfrm>
            <a:off x="2362320" y="5935680"/>
            <a:ext cx="19810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Frequency Band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1657440" y="1600200"/>
            <a:ext cx="5829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Duplexer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0" name="TextBox 4"/>
          <p:cNvSpPr/>
          <p:nvPr/>
        </p:nvSpPr>
        <p:spPr>
          <a:xfrm>
            <a:off x="152280" y="1905120"/>
            <a:ext cx="3353040" cy="4667760"/>
          </a:xfrm>
          <a:prstGeom prst="rect">
            <a:avLst/>
          </a:prstGeom>
          <a:solidFill>
            <a:srgbClr val="ffffff"/>
          </a:solidFill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 </a:t>
            </a: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duplexer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is used to separate the path of the received signal from that of the transmitted signal, thereby making it possible to connect a single antenna to the transmitter and receiver simultaneously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 </a:t>
            </a: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ferrite circulator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is an example of a duplexer; its ferrite material allows waves to travel in only the clockwise direction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3733920" y="1677960"/>
            <a:ext cx="527508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2664000" y="1828800"/>
            <a:ext cx="6480000" cy="45990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Transponder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4" name="TextBox 4"/>
          <p:cNvSpPr/>
          <p:nvPr/>
        </p:nvSpPr>
        <p:spPr>
          <a:xfrm>
            <a:off x="76320" y="1752480"/>
            <a:ext cx="2590560" cy="5887440"/>
          </a:xfrm>
          <a:prstGeom prst="rect">
            <a:avLst/>
          </a:prstGeom>
          <a:solidFill>
            <a:srgbClr val="ffffff"/>
          </a:solidFill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 transponder </a:t>
            </a: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receives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an incoming signal (or many signals each occupying a certain bandwidth), </a:t>
            </a: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amplifies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it, </a:t>
            </a: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changes its carrier frequency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, divides the spectrum into channels, </a:t>
            </a: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amplifies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each channel with a high power amplifier, </a:t>
            </a: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combines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all channels and then </a:t>
            </a: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transmits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the full spectrum to the intended destination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TextBox 5"/>
          <p:cNvSpPr/>
          <p:nvPr/>
        </p:nvSpPr>
        <p:spPr>
          <a:xfrm>
            <a:off x="0" y="647712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w Cen MT"/>
              </a:rPr>
              <a:t>In this example, available bandwidth is 432 MHz, which can accommodate 75-100 TV Channels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4" descr=""/>
          <p:cNvPicPr/>
          <p:nvPr/>
        </p:nvPicPr>
        <p:blipFill>
          <a:blip r:embed="rId1"/>
          <a:stretch/>
        </p:blipFill>
        <p:spPr>
          <a:xfrm>
            <a:off x="4295880" y="1606680"/>
            <a:ext cx="4848120" cy="47178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"/>
          <p:cNvPicPr/>
          <p:nvPr/>
        </p:nvPicPr>
        <p:blipFill>
          <a:blip r:embed="rId2"/>
          <a:stretch/>
        </p:blipFill>
        <p:spPr>
          <a:xfrm>
            <a:off x="457200" y="1565280"/>
            <a:ext cx="4800600" cy="85104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ommunication-Link Power Budge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9" name="TextBox 3"/>
          <p:cNvSpPr/>
          <p:nvPr/>
        </p:nvSpPr>
        <p:spPr>
          <a:xfrm>
            <a:off x="0" y="4343400"/>
            <a:ext cx="426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e</a:t>
            </a: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Tw Cen MT"/>
              </a:rPr>
              <a:t>signal-to-noise ratio</a:t>
            </a: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s defined as the ratio of the signal power to the noise power at the input of an equivalent noise-free receive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TextBox 6"/>
          <p:cNvSpPr/>
          <p:nvPr/>
        </p:nvSpPr>
        <p:spPr>
          <a:xfrm>
            <a:off x="0" y="2690640"/>
            <a:ext cx="1905120" cy="1923480"/>
          </a:xfrm>
          <a:prstGeom prst="rect">
            <a:avLst/>
          </a:prstGeom>
          <a:solidFill>
            <a:srgbClr val="ffffff"/>
          </a:solidFill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input power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t the receiver with atmospheric losses taken into accoun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391" name="Straight Arrow Connector 8"/>
          <p:cNvCxnSpPr/>
          <p:nvPr/>
        </p:nvCxnSpPr>
        <p:spPr>
          <a:xfrm flipV="1">
            <a:off x="684360" y="2211120"/>
            <a:ext cx="3600" cy="305280"/>
          </a:xfrm>
          <a:prstGeom prst="straightConnector1">
            <a:avLst/>
          </a:prstGeom>
          <a:ln w="1908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92" name="TextBox 9"/>
          <p:cNvSpPr/>
          <p:nvPr/>
        </p:nvSpPr>
        <p:spPr>
          <a:xfrm>
            <a:off x="1981080" y="2690640"/>
            <a:ext cx="1981440" cy="1618560"/>
          </a:xfrm>
          <a:prstGeom prst="rect">
            <a:avLst/>
          </a:prstGeom>
          <a:solidFill>
            <a:srgbClr val="ffffff"/>
          </a:solidFill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one-way </a:t>
            </a:r>
            <a:r>
              <a:rPr b="1" i="1" lang="en-US" sz="2000" spc="-1" strike="noStrike">
                <a:solidFill>
                  <a:srgbClr val="ff0000"/>
                </a:solidFill>
                <a:latin typeface="Tw Cen MT"/>
              </a:rPr>
              <a:t>transmissivity</a:t>
            </a:r>
            <a:r>
              <a:rPr b="1" i="1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of the atmosphere at </a:t>
            </a:r>
            <a:r>
              <a:rPr b="1" i="1" lang="en-US" sz="2000" spc="-1" strike="noStrike">
                <a:solidFill>
                  <a:srgbClr val="ff0000"/>
                </a:solidFill>
                <a:latin typeface="Tw Cen MT"/>
              </a:rPr>
              <a:t>zenith angle </a:t>
            </a:r>
            <a:r>
              <a:rPr b="1" i="1" lang="en-US" sz="2000" spc="-1" strike="noStrike">
                <a:solidFill>
                  <a:srgbClr val="000000"/>
                </a:solidFill>
                <a:latin typeface="Tw Cen MT"/>
              </a:rPr>
              <a:t>θ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393" name="Straight Arrow Connector 11"/>
          <p:cNvCxnSpPr/>
          <p:nvPr/>
        </p:nvCxnSpPr>
        <p:spPr>
          <a:xfrm flipV="1">
            <a:off x="2741760" y="2211120"/>
            <a:ext cx="3600" cy="305280"/>
          </a:xfrm>
          <a:prstGeom prst="straightConnector1">
            <a:avLst/>
          </a:prstGeom>
          <a:ln w="19080">
            <a:solidFill>
              <a:srgbClr val="4f81bd"/>
            </a:solidFill>
            <a:miter/>
            <a:tailEnd len="med" type="arrow" w="med"/>
          </a:ln>
        </p:spPr>
      </p:cxnSp>
      <p:pic>
        <p:nvPicPr>
          <p:cNvPr id="394" name="Picture 3" descr=""/>
          <p:cNvPicPr/>
          <p:nvPr/>
        </p:nvPicPr>
        <p:blipFill>
          <a:blip r:embed="rId3"/>
          <a:stretch/>
        </p:blipFill>
        <p:spPr>
          <a:xfrm>
            <a:off x="228600" y="5715000"/>
            <a:ext cx="394956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Antenna Beam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6" name="TextBox 4"/>
          <p:cNvSpPr/>
          <p:nvPr/>
        </p:nvSpPr>
        <p:spPr>
          <a:xfrm>
            <a:off x="457200" y="2438280"/>
            <a:ext cx="373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Antenna feed arrays are used to shape the satellite antenna beam to suit the intended coverag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4313160" y="152280"/>
            <a:ext cx="41706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20:19:06Z</dcterms:created>
  <dc:creator>jphilli</dc:creator>
  <dc:description/>
  <dc:language>en-US</dc:language>
  <cp:lastModifiedBy>User</cp:lastModifiedBy>
  <dcterms:modified xsi:type="dcterms:W3CDTF">2010-04-01T14:21:02Z</dcterms:modified>
  <cp:revision>83</cp:revision>
  <dc:subject/>
  <dc:title>EECS 215: Introduction to Circuits</dc:title>
</cp:coreProperties>
</file>