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74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7E6-46F5-4755-AF64-3DA5B1738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C14B-3AD5-451A-9792-F1CACA3CE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4795-E82B-413D-9F81-C769CAD6C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EA8-A26C-4617-869C-F1A541409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05CB-1A9A-4CEF-914C-E0727B9D0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F0AC-0B42-42B6-A7FC-59854F897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08F3-928A-462F-897D-7CCE7E831B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F24-BA46-49E3-9ED4-AE59373DF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665B-F9BE-403D-BBD1-8C359A9A3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7395-B8BF-49C0-B7A7-A5AE15596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241C-9801-4E68-AC4A-994082769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D7DF-DA5A-4549-A677-A4D25C1B0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40F5-9D99-4B62-A428-05263B639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F8A9-E98F-4C1D-B1FE-8EF5FBDF8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136-3A30-40EA-9E5D-3CAB20A60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DDC7-F6B5-4B0A-B530-AE25C7C63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4ED4-DD21-4555-BB90-1632926BB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A721-000B-4021-8A7A-E3582F29E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18E1-D1D6-4309-A439-D3F8A7964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642-7701-41EA-A838-9FB01F771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506-C913-46B2-B6CD-A71DB0D90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75F5-0574-48D8-8431-9E5FED128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AE3B-6303-4002-82FC-7F4879AA4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BE2-97F3-45BE-8CC5-401236EF9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8DEC-CF57-46E7-B409-21B71F100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E3F4-E74A-4ADA-94A6-8E5374267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E5F-9C51-4CDE-B1A5-81126A99F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8039-00E2-4605-98BC-B012C2CB3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0F93-7924-4C68-A24F-F5EAEAA1C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AD47-AAE0-46E0-A8B9-85E6B2D4D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E39E-D3AA-42F0-9749-0A886B51C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A87-05D8-4E57-903B-BE82CE691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1DE9-751A-4A06-9C5B-593E5C03A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CB77-BF72-4A2E-8793-CD7BB646A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70FA-A628-4607-9A80-2ED0D430D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35F8-AC83-45BF-9342-F600BA81D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CA9-AB69-4F37-9FF5-D2A623086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6F5-21E8-418F-8E9F-B2A6FE47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B87-1B1B-411A-A229-E7449960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E66-B748-47E1-B2D2-96A30117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E51-E253-46A6-8561-1DB1B594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2E3C-C2DD-418D-AA26-4CA7E43B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38D0-A64A-416D-A2A9-5A96B930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E63B-3B0D-445F-8167-3B229380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B19C-0E50-4518-845A-4AD421DB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C0DB-A10C-4904-8310-0E774B00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46E9-4DDC-456B-A5AE-109627F4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CA0B-D694-4423-BD7C-0C59ED36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198-A096-4729-9E39-17693270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A3BB-8F9B-4F9F-898C-442C41A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324D-BE6A-49BC-BC60-AD97AD5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F66B-0FCD-4642-B2C0-A33226C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F0BF-2ECF-4749-920D-1E5170FF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A4BC-EE7F-4375-9953-B54FF7D8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91F34-5F80-4B5A-B9D1-B1BEF89C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475F6-B864-4BFC-8D27-4C5E6ACA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99797-FCC4-4010-B40D-0699669F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D2CE3-F9B0-443D-B38B-44B9D4FB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09D71-9F8C-443A-8410-B7B91B40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E89-448E-4F93-B332-16B2CFBE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B3D51-377D-46FB-A31E-CD4E4099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6333E-19AE-47F3-8227-ABE1EB5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190F9-9AB9-4817-AA9D-A64E1D1B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F5737-3494-4DD0-8639-C33E312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77E55-FCAF-4C07-B1C1-87CF7299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E0411-D00A-4E4A-8C66-F2F3425A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58589-EC63-475E-970B-1570F964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3BFA1-144C-42FB-8F69-278B5555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B4B21-5713-4FD4-BD44-3681F86A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AEAEE-6A11-4E0C-A365-0F29BE75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B09-B211-4CED-869B-5315566B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66864-6DC8-49E7-BD9A-DB296E27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42097-60EE-4998-9CA9-ADE57677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81D5BE-BCF9-49A5-A42C-2EC589C9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8CCF9-BFCC-4C49-929C-611C37B7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AD7A8-9EA2-4374-86E7-127660D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3A87E-ACD0-465A-865F-31E5047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8CFD3-D405-43AF-9A65-2963342A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000B9-F102-4656-AFAA-41DBC55D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DF535-2332-473D-92E3-5B1C4D1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A1B1E-5358-4843-9B1E-D0E4A5A0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439-75DE-4BDA-B7F8-D99C9D80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1E36D-0E2C-4202-B14A-B04730FF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6EC05-8CE7-4B33-8A48-A8C0461B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941C6-52F4-42AD-A9C5-A2AC96A7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4A3BD-95AB-4102-AD1A-596994F1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91BA8-61A7-4A5A-ACCB-4DB53FD5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9F7A2-CA07-427A-8F0B-6354088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0639B-CF6B-4077-AB7B-3CA6612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F6A09-CEF3-488E-8758-B6F96F3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6F0B0-330E-4DF4-844F-044554A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095E7-F03C-4AF9-904C-21E4AA13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D00-BC06-4856-AEC9-ADCEE0C1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DD121-BE35-408F-8E17-F9B50BC0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71DE9-133E-486B-9D06-CDA77AE8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E8E4-AD9A-4EB3-8BC6-D0957E5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EB88E-3C10-4C15-8CC3-2650BF46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5BEBF-1D5C-4759-AAF6-57E6203A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8608-46F3-40B3-953B-2CCB6062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3D5E-F8A0-44D8-B9C6-2A048D0A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DCD07-BA6F-45B6-AC9E-DFB5D299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CD6EE-AC50-4526-8F5B-128450F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01E92-2B84-439B-B03B-ADEB8F3B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5E6-6C17-4146-9FC5-BFA3A408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42FC-7AFB-483A-A39A-581AA0C9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AE8E1-D808-4B6B-9A98-7CD73C70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A7CB3-5640-4AC5-B7E1-C51C8800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A7CA3-C720-4299-97A9-71E46077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1D382-E98E-47C9-B598-DADE9FC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A65BFB-161E-4A8D-9042-3F848117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17F44-A0F0-453F-9A3A-5691D5BE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81FA4-0C0B-4422-8AE2-11FA8051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5F323-5EBF-4809-9888-C2F543D6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9F1F5-56C1-40AB-8D92-5AA81EB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CBD-4A04-4C42-BE52-4FBB66C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6ED1D-3E51-4CE2-B52B-94B1B523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E2719F-6C10-433F-9603-52A62561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C557F-5D75-4834-9927-CA0C6903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18F3D-A858-4DDB-B931-10EDAE56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2E2E6-AE24-407F-9FED-1E5D807F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D37E0-B906-42FB-B180-CF4D0C5E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4718B-031B-4944-BB5D-9D4B1AAA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F285-0C54-4D13-91BD-C63EBDA9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BAAA5-E8EA-41D9-A860-1200C86E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858A9-5A00-4F31-9140-0BDB0E57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5D5-26E5-4C3F-9F7F-38D4A239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E44A7-DE7C-4A35-8999-D11553D2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5131E-5C2E-47C7-BBDC-66FC281C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692C4-3A2E-4A90-94D8-E41C2500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C00B-B863-4022-AD01-C0CA642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7E45A-7886-4B0C-B7C3-A2D93941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455E0-1AB1-476A-9910-F960E5C0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92567-8CD8-494B-955F-20DC2C03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514-C279-405F-8D5C-A327C016BF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CA1B-83F0-49A6-8774-41A48898F108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CC7C-0122-4507-AD98-B95B9ED53DB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85D8-73FE-4EC1-AD30-3426CBE192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E066-8DFA-4D72-A818-CED91635A2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DC6C-AD8D-4BE6-9CAA-F8A4D9ACD537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EB68-0813-46BB-B5AA-B84358E928C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94A4-2E35-40FE-8106-7921F78448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4.png"/><Relationship Id="rId5" Type="http://schemas.openxmlformats.org/officeDocument/2006/relationships/image" Target="../media/image78.pn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image" Target="../media/image92.png"/><Relationship Id="rId10" Type="http://schemas.openxmlformats.org/officeDocument/2006/relationships/image" Target="../media/image9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w Cen MT"/>
              </a:rPr>
              <a:t>6. MAXWELL’S EQUATIONS IN TIME-VARYING FIELDS</a:t>
            </a:r>
            <a:endParaRPr b="0" lang="en-US" sz="32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2514600" y="6095880"/>
            <a:ext cx="6629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pplied EM by Ulaby, Michielssen and Ravaiol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5" descr="ac.tiff"/>
          <p:cNvPicPr/>
          <p:nvPr/>
        </p:nvPicPr>
        <p:blipFill>
          <a:blip r:embed="rId1"/>
          <a:stretch/>
        </p:blipFill>
        <p:spPr>
          <a:xfrm>
            <a:off x="1905120" y="457200"/>
            <a:ext cx="488448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54000" y="0"/>
            <a:ext cx="5132520" cy="3962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3871800" y="3581280"/>
            <a:ext cx="5272200" cy="3276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tretch/>
        </p:blipFill>
        <p:spPr>
          <a:xfrm>
            <a:off x="5060880" y="0"/>
            <a:ext cx="4083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Ideal Transformer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4419360" cy="1650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158840" cy="689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1143000" cy="730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1219320" y="4038480"/>
            <a:ext cx="761760" cy="479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5"/>
          <a:stretch/>
        </p:blipFill>
        <p:spPr>
          <a:xfrm>
            <a:off x="152280" y="4511520"/>
            <a:ext cx="4648320" cy="22701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4876920" y="876240"/>
            <a:ext cx="41796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Motional EMF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152280" y="1523880"/>
            <a:ext cx="42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Magnetic force on charge </a:t>
            </a:r>
            <a:r>
              <a:rPr b="0" i="1" lang="en-US" sz="2000" spc="-1" strike="noStrike">
                <a:solidFill>
                  <a:srgbClr val="ff0000"/>
                </a:solidFill>
                <a:latin typeface="Tw Cen MT"/>
              </a:rPr>
              <a:t>q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 moving with velocity 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u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 in a magnetic field 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1371600" y="2236680"/>
            <a:ext cx="1542960" cy="277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4419720" y="439560"/>
            <a:ext cx="4724280" cy="3522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3"/>
          <a:stretch/>
        </p:blipFill>
        <p:spPr>
          <a:xfrm>
            <a:off x="3886200" y="4254480"/>
            <a:ext cx="5257800" cy="1231920"/>
          </a:xfrm>
          <a:prstGeom prst="rect">
            <a:avLst/>
          </a:prstGeom>
          <a:ln w="0">
            <a:noFill/>
          </a:ln>
        </p:spPr>
      </p:pic>
      <p:sp>
        <p:nvSpPr>
          <p:cNvPr id="404" name="Straight Connector 9"/>
          <p:cNvSpPr/>
          <p:nvPr/>
        </p:nvSpPr>
        <p:spPr>
          <a:xfrm>
            <a:off x="5486400" y="4038480"/>
            <a:ext cx="236232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0" y="2590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his magnetic force is equivalent to the electrical force that would be exerted on the particle by the electric field Em given b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TextBox 11"/>
          <p:cNvSpPr/>
          <p:nvPr/>
        </p:nvSpPr>
        <p:spPr>
          <a:xfrm>
            <a:off x="76320" y="4343400"/>
            <a:ext cx="3733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his, in turn, induces a voltage difference between ends 1 and 2, with end 2 being at the higher potential. The induced voltage is called a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motional emf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7" name="Picture 12" descr="eq6.23.tiff"/>
          <p:cNvPicPr/>
          <p:nvPr/>
        </p:nvPicPr>
        <p:blipFill>
          <a:blip r:embed="rId4"/>
          <a:stretch/>
        </p:blipFill>
        <p:spPr>
          <a:xfrm>
            <a:off x="838080" y="3581280"/>
            <a:ext cx="2210040" cy="871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eq6.24.tiff"/>
          <p:cNvPicPr/>
          <p:nvPr/>
        </p:nvPicPr>
        <p:blipFill>
          <a:blip r:embed="rId5"/>
          <a:stretch/>
        </p:blipFill>
        <p:spPr>
          <a:xfrm>
            <a:off x="0" y="5656320"/>
            <a:ext cx="44956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Motional EMF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10" name="Content Placeholder 3" descr="sta.tiff"/>
          <p:cNvPicPr/>
          <p:nvPr/>
        </p:nvPicPr>
        <p:blipFill>
          <a:blip r:embed="rId1"/>
          <a:srcRect l="-246" t="0" r="-246" b="0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3406680" y="3505320"/>
            <a:ext cx="5737320" cy="27460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w Cen MT"/>
              </a:rPr>
              <a:t>Example 6-3: </a:t>
            </a:r>
            <a:r>
              <a:rPr b="0" lang="en-US" sz="3600" spc="-1" strike="noStrike">
                <a:solidFill>
                  <a:srgbClr val="ff0000"/>
                </a:solidFill>
                <a:latin typeface="Tw Cen MT"/>
              </a:rPr>
              <a:t>Sliding Bar</a:t>
            </a:r>
            <a:endParaRPr b="0" lang="en-US" sz="36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2"/>
          <a:stretch/>
        </p:blipFill>
        <p:spPr>
          <a:xfrm>
            <a:off x="6858000" y="3186000"/>
            <a:ext cx="1009800" cy="243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eq6.27a.tiff"/>
          <p:cNvPicPr/>
          <p:nvPr/>
        </p:nvPicPr>
        <p:blipFill>
          <a:blip r:embed="rId3"/>
          <a:stretch/>
        </p:blipFill>
        <p:spPr>
          <a:xfrm>
            <a:off x="0" y="1523880"/>
            <a:ext cx="4956120" cy="20829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8"/>
          <p:cNvSpPr/>
          <p:nvPr/>
        </p:nvSpPr>
        <p:spPr>
          <a:xfrm>
            <a:off x="304920" y="37339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he length of the loop is related to </a:t>
            </a:r>
            <a:r>
              <a:rPr b="0" i="1" lang="en-US" sz="2000" spc="-1" strike="noStrike">
                <a:solidFill>
                  <a:srgbClr val="ff0000"/>
                </a:solidFill>
                <a:latin typeface="Tw Cen MT"/>
              </a:rPr>
              <a:t>u by x</a:t>
            </a:r>
            <a:r>
              <a:rPr b="0" i="1" lang="en-US" sz="1400" spc="-1" strike="noStrike">
                <a:solidFill>
                  <a:srgbClr val="ff0000"/>
                </a:solidFill>
                <a:latin typeface="Tw Cen MT"/>
              </a:rPr>
              <a:t>0</a:t>
            </a:r>
            <a:r>
              <a:rPr b="0" i="1" lang="en-US" sz="2000" spc="-1" strike="noStrike">
                <a:solidFill>
                  <a:srgbClr val="ff0000"/>
                </a:solidFill>
                <a:latin typeface="Tw Cen MT"/>
              </a:rPr>
              <a:t> = ut. He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6" name="Picture 9" descr="eq6.27.tiff"/>
          <p:cNvPicPr/>
          <p:nvPr/>
        </p:nvPicPr>
        <p:blipFill>
          <a:blip r:embed="rId4"/>
          <a:stretch/>
        </p:blipFill>
        <p:spPr>
          <a:xfrm>
            <a:off x="304920" y="4952880"/>
            <a:ext cx="3200400" cy="107496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5544000" y="249552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Note that B increases with x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212760" y="3886200"/>
            <a:ext cx="4359240" cy="29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ex6.5.tiff"/>
          <p:cNvPicPr/>
          <p:nvPr/>
        </p:nvPicPr>
        <p:blipFill>
          <a:blip r:embed="rId2"/>
          <a:stretch/>
        </p:blipFill>
        <p:spPr>
          <a:xfrm>
            <a:off x="0" y="0"/>
            <a:ext cx="9144000" cy="2343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bf.tiff"/>
          <p:cNvPicPr/>
          <p:nvPr/>
        </p:nvPicPr>
        <p:blipFill>
          <a:blip r:embed="rId3"/>
          <a:stretch/>
        </p:blipFill>
        <p:spPr>
          <a:xfrm>
            <a:off x="609480" y="2754360"/>
            <a:ext cx="1524240" cy="900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v12.tiff"/>
          <p:cNvPicPr/>
          <p:nvPr/>
        </p:nvPicPr>
        <p:blipFill>
          <a:blip r:embed="rId4"/>
          <a:stretch/>
        </p:blipFill>
        <p:spPr>
          <a:xfrm>
            <a:off x="4527720" y="1981080"/>
            <a:ext cx="4616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  </a:t>
            </a: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EM Motor/ Generator Reciprocity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685800" y="5638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Motor: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lectrical to mechanical energy convers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571500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Generator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:  Mechanical to electrical energy convers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81160" y="1685880"/>
            <a:ext cx="4062240" cy="3486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024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EM Generator EMF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5257800" y="0"/>
            <a:ext cx="3745080" cy="399888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"/>
          <p:cNvSpPr/>
          <p:nvPr/>
        </p:nvSpPr>
        <p:spPr>
          <a:xfrm>
            <a:off x="152280" y="1523880"/>
            <a:ext cx="464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As the loop rotates with an angular velocity </a:t>
            </a:r>
            <a:r>
              <a:rPr b="0" i="1" lang="en-US" sz="2000" spc="-1" strike="noStrike">
                <a:solidFill>
                  <a:srgbClr val="ff0000"/>
                </a:solidFill>
                <a:latin typeface="Tw Cen MT"/>
              </a:rPr>
              <a:t>ω about its own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axis, segment 1–2 moves with velocity 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u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given b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0" name="Picture 6" descr="eq6.31.tiff"/>
          <p:cNvPicPr/>
          <p:nvPr/>
        </p:nvPicPr>
        <p:blipFill>
          <a:blip r:embed="rId2"/>
          <a:stretch/>
        </p:blipFill>
        <p:spPr>
          <a:xfrm>
            <a:off x="1066680" y="251460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eq6.32.tiff"/>
          <p:cNvPicPr/>
          <p:nvPr/>
        </p:nvPicPr>
        <p:blipFill>
          <a:blip r:embed="rId3"/>
          <a:stretch/>
        </p:blipFill>
        <p:spPr>
          <a:xfrm>
            <a:off x="1447920" y="3200400"/>
            <a:ext cx="1676160" cy="6094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8"/>
          <p:cNvSpPr/>
          <p:nvPr/>
        </p:nvSpPr>
        <p:spPr>
          <a:xfrm>
            <a:off x="260640" y="327672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Also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-309960" y="3809880"/>
            <a:ext cx="54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Segment 3-4 moves with velocity –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u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. Henc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4" name="Picture 10" descr="eq6.33.tiff"/>
          <p:cNvPicPr/>
          <p:nvPr/>
        </p:nvPicPr>
        <p:blipFill>
          <a:blip r:embed="rId4"/>
          <a:stretch/>
        </p:blipFill>
        <p:spPr>
          <a:xfrm>
            <a:off x="380880" y="4227480"/>
            <a:ext cx="3886200" cy="2630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" descr="eq6.34.tiff"/>
          <p:cNvPicPr/>
          <p:nvPr/>
        </p:nvPicPr>
        <p:blipFill>
          <a:blip r:embed="rId5"/>
          <a:stretch/>
        </p:blipFill>
        <p:spPr>
          <a:xfrm>
            <a:off x="5029200" y="4114800"/>
            <a:ext cx="3809880" cy="619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2" descr="eq6.35.tiff"/>
          <p:cNvPicPr/>
          <p:nvPr/>
        </p:nvPicPr>
        <p:blipFill>
          <a:blip r:embed="rId6"/>
          <a:stretch/>
        </p:blipFill>
        <p:spPr>
          <a:xfrm>
            <a:off x="6019920" y="4724280"/>
            <a:ext cx="1676160" cy="631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3" descr="eq6.36.tiff"/>
          <p:cNvPicPr/>
          <p:nvPr/>
        </p:nvPicPr>
        <p:blipFill>
          <a:blip r:embed="rId7"/>
          <a:stretch/>
        </p:blipFill>
        <p:spPr>
          <a:xfrm>
            <a:off x="4572000" y="5486400"/>
            <a:ext cx="4529160" cy="743040"/>
          </a:xfrm>
          <a:prstGeom prst="rect">
            <a:avLst/>
          </a:prstGeom>
          <a:ln w="2844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81000" y="210960"/>
            <a:ext cx="8982000" cy="64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ech Brief 12:  </a:t>
            </a: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MF Sensor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457200" y="4267080"/>
            <a:ext cx="73152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iezoelectric crystal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enerate a voltage across them proportional to the compression or tensile (stretching) force applied across them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iezoelectric transducer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re used in medical ultrasound, microphones, loudspeakers, accelerometers,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iezoelectric crystals are bidirectional: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ssure generates emf, and conversely, emf generates pressure (through shape distortion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74600" y="1523880"/>
            <a:ext cx="879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hapter 6 Overview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49400" y="1771560"/>
            <a:ext cx="88452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araday Accelerometer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2438280" y="609588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he acceleration 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 is determined by differentiating the velocity u with respect to 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6381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Thermocoupl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1143000" y="4876920"/>
            <a:ext cx="71550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thermocouple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measures the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unknown temperature </a:t>
            </a:r>
            <a:r>
              <a:rPr b="0" i="1" lang="en-US" sz="1800" spc="-1" strike="noStrike">
                <a:solidFill>
                  <a:srgbClr val="ff0000"/>
                </a:solidFill>
                <a:latin typeface="Tw Cen MT"/>
              </a:rPr>
              <a:t>T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t a junction connecting two metals with different thermal conductivities, relative to a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reference temperature </a:t>
            </a:r>
            <a:r>
              <a:rPr b="0" i="1" lang="en-US" sz="1800" spc="-1" strike="noStrike">
                <a:solidFill>
                  <a:srgbClr val="ff0000"/>
                </a:solidFill>
                <a:latin typeface="Tw Cen MT"/>
              </a:rPr>
              <a:t>T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w Cen MT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n today’s temperature sensor designs, an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artificial cold junction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s used instead.  The artificial junction is an electric circuit that generates a voltage equal to that expected from a reference junction at temperature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1393920" y="1600200"/>
            <a:ext cx="63561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Displacement Curren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1752480" y="4714920"/>
            <a:ext cx="12193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is term is conduction current 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50" name="Straight Arrow Connector 6"/>
          <p:cNvCxnSpPr/>
          <p:nvPr/>
        </p:nvCxnSpPr>
        <p:spPr>
          <a:xfrm flipV="1">
            <a:off x="2588040" y="4343040"/>
            <a:ext cx="2520" cy="3816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51" name="TextBox 7"/>
          <p:cNvSpPr/>
          <p:nvPr/>
        </p:nvSpPr>
        <p:spPr>
          <a:xfrm>
            <a:off x="3124080" y="46386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is term must represent a curre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52" name="Straight Arrow Connector 9"/>
          <p:cNvCxnSpPr/>
          <p:nvPr/>
        </p:nvCxnSpPr>
        <p:spPr>
          <a:xfrm flipV="1">
            <a:off x="3656160" y="4343040"/>
            <a:ext cx="2160" cy="3816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53" name="TextBox 10"/>
          <p:cNvSpPr/>
          <p:nvPr/>
        </p:nvSpPr>
        <p:spPr>
          <a:xfrm>
            <a:off x="5153760" y="1752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4591080" y="518148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Application of Stokes’s theorem gives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TextBox 14"/>
          <p:cNvSpPr/>
          <p:nvPr/>
        </p:nvSpPr>
        <p:spPr>
          <a:xfrm>
            <a:off x="5029200" y="4800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465880" cy="2673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tretch/>
        </p:blipFill>
        <p:spPr>
          <a:xfrm>
            <a:off x="4572000" y="5715000"/>
            <a:ext cx="4191120" cy="809640"/>
          </a:xfrm>
          <a:prstGeom prst="rect">
            <a:avLst/>
          </a:prstGeom>
          <a:ln w="0">
            <a:noFill/>
          </a:ln>
        </p:spPr>
      </p:pic>
      <p:sp>
        <p:nvSpPr>
          <p:cNvPr id="458" name="TextBox 15"/>
          <p:cNvSpPr/>
          <p:nvPr/>
        </p:nvSpPr>
        <p:spPr>
          <a:xfrm>
            <a:off x="8290080" y="64771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Co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Displacement Curren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447920" y="4267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2895480" y="4267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TextBox 10"/>
          <p:cNvSpPr/>
          <p:nvPr/>
        </p:nvSpPr>
        <p:spPr>
          <a:xfrm>
            <a:off x="146880" y="274320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Define the displacement current as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276840" y="54100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TextBox 14"/>
          <p:cNvSpPr/>
          <p:nvPr/>
        </p:nvSpPr>
        <p:spPr>
          <a:xfrm>
            <a:off x="5257800" y="31240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The displacement current does not involve real charges;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it is an equivalent current that depends 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1120" cy="809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" descr=""/>
          <p:cNvPicPr/>
          <p:nvPr/>
        </p:nvPicPr>
        <p:blipFill>
          <a:blip r:embed="rId2"/>
          <a:stretch/>
        </p:blipFill>
        <p:spPr>
          <a:xfrm>
            <a:off x="0" y="3276720"/>
            <a:ext cx="5286240" cy="23619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609480" cy="2509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8686800" y="1600200"/>
            <a:ext cx="7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68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apacitor Circui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76320" y="167652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Given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Wires are perfect conductors and capacitor insulator material is perfect dielectric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228600" y="2971800"/>
            <a:ext cx="16081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For Surface </a:t>
            </a:r>
            <a:r>
              <a:rPr b="0" i="1" lang="en-US" sz="1800" spc="-1" strike="noStrike">
                <a:solidFill>
                  <a:srgbClr val="ff0000"/>
                </a:solidFill>
                <a:latin typeface="Tw Cen MT"/>
              </a:rPr>
              <a:t>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w Cen MT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TextBox 8"/>
          <p:cNvSpPr/>
          <p:nvPr/>
        </p:nvSpPr>
        <p:spPr>
          <a:xfrm>
            <a:off x="1415160" y="487692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= 0 in perfect conductor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5312520" y="2133720"/>
            <a:ext cx="2829240" cy="20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For Surface </a:t>
            </a:r>
            <a:r>
              <a:rPr b="0" i="1" lang="en-US" sz="1800" spc="-1" strike="noStrike">
                <a:solidFill>
                  <a:srgbClr val="ff0000"/>
                </a:solidFill>
                <a:latin typeface="Tw Cen MT"/>
              </a:rPr>
              <a:t>S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w Cen MT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c</a:t>
            </a: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(perfect dielectric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TextBox 12"/>
          <p:cNvSpPr/>
          <p:nvPr/>
        </p:nvSpPr>
        <p:spPr>
          <a:xfrm>
            <a:off x="4920120" y="6324480"/>
            <a:ext cx="210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Conclusion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62520" y="149400"/>
            <a:ext cx="5181480" cy="19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"/>
          <p:cNvPicPr/>
          <p:nvPr/>
        </p:nvPicPr>
        <p:blipFill>
          <a:blip r:embed="rId2"/>
          <a:stretch/>
        </p:blipFill>
        <p:spPr>
          <a:xfrm>
            <a:off x="304920" y="4186080"/>
            <a:ext cx="4267080" cy="4795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"/>
          <p:cNvPicPr/>
          <p:nvPr/>
        </p:nvPicPr>
        <p:blipFill>
          <a:blip r:embed="rId3"/>
          <a:stretch/>
        </p:blipFill>
        <p:spPr>
          <a:xfrm>
            <a:off x="609480" y="4976640"/>
            <a:ext cx="838440" cy="2811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4"/>
          <a:stretch/>
        </p:blipFill>
        <p:spPr>
          <a:xfrm>
            <a:off x="5105520" y="3300480"/>
            <a:ext cx="2286000" cy="549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"/>
          <p:cNvPicPr/>
          <p:nvPr/>
        </p:nvPicPr>
        <p:blipFill>
          <a:blip r:embed="rId5"/>
          <a:stretch/>
        </p:blipFill>
        <p:spPr>
          <a:xfrm>
            <a:off x="5029200" y="3962520"/>
            <a:ext cx="347184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76320" y="0"/>
            <a:ext cx="5284800" cy="6095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2"/>
          <a:stretch/>
        </p:blipFill>
        <p:spPr>
          <a:xfrm>
            <a:off x="4038480" y="4084560"/>
            <a:ext cx="5029200" cy="124956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oundary Cond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11160" y="1722600"/>
            <a:ext cx="9121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harge Current Continuity Equatio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109440" y="2816280"/>
            <a:ext cx="3200400" cy="917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109440" y="3870360"/>
            <a:ext cx="2819520" cy="8539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3"/>
          <a:stretch/>
        </p:blipFill>
        <p:spPr>
          <a:xfrm>
            <a:off x="109440" y="4876920"/>
            <a:ext cx="4310280" cy="8395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"/>
          <p:cNvPicPr/>
          <p:nvPr/>
        </p:nvPicPr>
        <p:blipFill>
          <a:blip r:embed="rId4"/>
          <a:stretch/>
        </p:blipFill>
        <p:spPr>
          <a:xfrm>
            <a:off x="4651200" y="1523880"/>
            <a:ext cx="4426200" cy="2971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"/>
          <p:cNvPicPr/>
          <p:nvPr/>
        </p:nvPicPr>
        <p:blipFill>
          <a:blip r:embed="rId5"/>
          <a:stretch/>
        </p:blipFill>
        <p:spPr>
          <a:xfrm>
            <a:off x="3962520" y="5334120"/>
            <a:ext cx="5029200" cy="13665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7"/>
          <p:cNvSpPr/>
          <p:nvPr/>
        </p:nvSpPr>
        <p:spPr>
          <a:xfrm>
            <a:off x="152280" y="1828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Current I out of a volume is equal to rate of decrease of charge Q contained in that volume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TextBox 8"/>
          <p:cNvSpPr/>
          <p:nvPr/>
        </p:nvSpPr>
        <p:spPr>
          <a:xfrm>
            <a:off x="148320" y="60958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Used Divergence Theor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92" name="Straight Arrow Connector 12"/>
          <p:cNvCxnSpPr/>
          <p:nvPr/>
        </p:nvCxnSpPr>
        <p:spPr>
          <a:xfrm flipV="1">
            <a:off x="1370160" y="5715720"/>
            <a:ext cx="3600" cy="30564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harge Dissipatio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0" y="3200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TextBox 3"/>
          <p:cNvSpPr/>
          <p:nvPr/>
        </p:nvSpPr>
        <p:spPr>
          <a:xfrm>
            <a:off x="0" y="990720"/>
            <a:ext cx="8991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Question 1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What happens if you place a certain amount of free charge inside of a material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Answer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The charge will move to the surface of the material, thereby returning its interior to a neutral stat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Question 2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How fast will this happen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Answer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It depends on the material; in a good conductor, the charge dissipates in less than a femtosecond, whereas in a good dielectric, the process may take several hour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4845960" y="51814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7" name="Content Placeholder 10" descr="eq6.60.tiff"/>
          <p:cNvPicPr/>
          <p:nvPr/>
        </p:nvPicPr>
        <p:blipFill>
          <a:blip r:embed="rId1"/>
          <a:srcRect l="-3900" t="0" r="-3900" b="0"/>
          <a:stretch/>
        </p:blipFill>
        <p:spPr>
          <a:xfrm>
            <a:off x="1322280" y="3429000"/>
            <a:ext cx="5992920" cy="330516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2"/>
          <p:cNvSpPr/>
          <p:nvPr/>
        </p:nvSpPr>
        <p:spPr>
          <a:xfrm>
            <a:off x="2163960" y="312408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Derivation of charge density equa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9" name="Picture 13" descr="blank.tiff"/>
          <p:cNvPicPr/>
          <p:nvPr/>
        </p:nvPicPr>
        <p:blipFill>
          <a:blip r:embed="rId2"/>
          <a:stretch/>
        </p:blipFill>
        <p:spPr>
          <a:xfrm>
            <a:off x="152280" y="3962520"/>
            <a:ext cx="914400" cy="3045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14"/>
          <p:cNvSpPr/>
          <p:nvPr/>
        </p:nvSpPr>
        <p:spPr>
          <a:xfrm>
            <a:off x="4845960" y="58672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TextBox 15"/>
          <p:cNvSpPr/>
          <p:nvPr/>
        </p:nvSpPr>
        <p:spPr>
          <a:xfrm>
            <a:off x="7893720" y="58672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8334360" y="64008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Co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olution of Charge Dissipation Equation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0" y="3200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TextBox 3"/>
          <p:cNvSpPr/>
          <p:nvPr/>
        </p:nvSpPr>
        <p:spPr>
          <a:xfrm>
            <a:off x="0" y="15228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648000" y="518148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For copper: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7" descr="tcop.tiff"/>
          <p:cNvPicPr/>
          <p:nvPr/>
        </p:nvPicPr>
        <p:blipFill>
          <a:blip r:embed="rId1"/>
          <a:stretch/>
        </p:blipFill>
        <p:spPr>
          <a:xfrm>
            <a:off x="2514600" y="5257800"/>
            <a:ext cx="2666880" cy="380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tmic.tiff"/>
          <p:cNvPicPr/>
          <p:nvPr/>
        </p:nvPicPr>
        <p:blipFill>
          <a:blip r:embed="rId2"/>
          <a:stretch/>
        </p:blipFill>
        <p:spPr>
          <a:xfrm>
            <a:off x="2514600" y="5943600"/>
            <a:ext cx="2293920" cy="457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1" descr="eq6.61.tiff"/>
          <p:cNvPicPr/>
          <p:nvPr/>
        </p:nvPicPr>
        <p:blipFill>
          <a:blip r:embed="rId3"/>
          <a:stretch/>
        </p:blipFill>
        <p:spPr>
          <a:xfrm>
            <a:off x="152280" y="3048120"/>
            <a:ext cx="6972480" cy="1904760"/>
          </a:xfrm>
          <a:prstGeom prst="rect">
            <a:avLst/>
          </a:prstGeom>
          <a:ln w="0">
            <a:noFill/>
          </a:ln>
        </p:spPr>
      </p:pic>
      <p:sp>
        <p:nvSpPr>
          <p:cNvPr id="510" name="TextBox 12"/>
          <p:cNvSpPr/>
          <p:nvPr/>
        </p:nvSpPr>
        <p:spPr>
          <a:xfrm>
            <a:off x="48240" y="3505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13" descr="blank.tiff"/>
          <p:cNvPicPr/>
          <p:nvPr/>
        </p:nvPicPr>
        <p:blipFill>
          <a:blip r:embed="rId4"/>
          <a:stretch/>
        </p:blipFill>
        <p:spPr>
          <a:xfrm>
            <a:off x="152280" y="3962520"/>
            <a:ext cx="914400" cy="3045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14"/>
          <p:cNvSpPr/>
          <p:nvPr/>
        </p:nvSpPr>
        <p:spPr>
          <a:xfrm>
            <a:off x="744480" y="586728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For mic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TextBox 15"/>
          <p:cNvSpPr/>
          <p:nvPr/>
        </p:nvSpPr>
        <p:spPr>
          <a:xfrm>
            <a:off x="4716360" y="59436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= 15 hou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4" name="Content Placeholder 17" descr="eq6.60.tiff"/>
          <p:cNvPicPr/>
          <p:nvPr/>
        </p:nvPicPr>
        <p:blipFill>
          <a:blip r:embed="rId5"/>
          <a:srcRect l="0" t="-4545" r="0" b="-4545"/>
          <a:stretch/>
        </p:blipFill>
        <p:spPr>
          <a:xfrm>
            <a:off x="228600" y="1828800"/>
            <a:ext cx="2209680" cy="12193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blank.tiff"/>
          <p:cNvPicPr/>
          <p:nvPr/>
        </p:nvPicPr>
        <p:blipFill>
          <a:blip r:embed="rId6"/>
          <a:stretch/>
        </p:blipFill>
        <p:spPr>
          <a:xfrm>
            <a:off x="6629400" y="3886200"/>
            <a:ext cx="914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Maxwell’s Equa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23480" y="6248520"/>
            <a:ext cx="88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In this chapter, we will examine Faraday’s and Ampère’s law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954000" y="1600200"/>
            <a:ext cx="7236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EM Potentia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7" name="TextBox 3"/>
          <p:cNvSpPr/>
          <p:nvPr/>
        </p:nvSpPr>
        <p:spPr>
          <a:xfrm>
            <a:off x="304920" y="22860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6"/>
          <p:cNvSpPr/>
          <p:nvPr/>
        </p:nvSpPr>
        <p:spPr>
          <a:xfrm>
            <a:off x="78480" y="17524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Static condi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TextBox 7"/>
          <p:cNvSpPr/>
          <p:nvPr/>
        </p:nvSpPr>
        <p:spPr>
          <a:xfrm>
            <a:off x="34920" y="3240000"/>
            <a:ext cx="24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Dynamic condi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TextBox 9"/>
          <p:cNvSpPr/>
          <p:nvPr/>
        </p:nvSpPr>
        <p:spPr>
          <a:xfrm>
            <a:off x="-219960" y="4724280"/>
            <a:ext cx="53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Dynamic condition with propagation dela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4262760" y="4735440"/>
            <a:ext cx="53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Similarly, for the magnetic vector potentia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667240" cy="792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078360" cy="762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3968640" y="152280"/>
            <a:ext cx="5139000" cy="3733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"/>
          <p:cNvPicPr/>
          <p:nvPr/>
        </p:nvPicPr>
        <p:blipFill>
          <a:blip r:embed="rId4"/>
          <a:stretch/>
        </p:blipFill>
        <p:spPr>
          <a:xfrm>
            <a:off x="4572000" y="5257800"/>
            <a:ext cx="4470480" cy="762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"/>
          <p:cNvPicPr/>
          <p:nvPr/>
        </p:nvPicPr>
        <p:blipFill>
          <a:blip r:embed="rId5"/>
          <a:stretch/>
        </p:blipFill>
        <p:spPr>
          <a:xfrm>
            <a:off x="152280" y="5257800"/>
            <a:ext cx="42436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ime Harmonic Potentia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-470160" y="1487520"/>
            <a:ext cx="625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If charges and currents vary sinusoidally with tim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-42480" y="228600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we can use phasor notati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178200" y="3276720"/>
            <a:ext cx="69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-189000" y="4038480"/>
            <a:ext cx="43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Expressions for potentials becom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5078520" y="3211560"/>
            <a:ext cx="36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Maxwell’s equations becom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TextBox 15"/>
          <p:cNvSpPr/>
          <p:nvPr/>
        </p:nvSpPr>
        <p:spPr>
          <a:xfrm>
            <a:off x="4731840" y="182880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lso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380880" y="1935000"/>
            <a:ext cx="3200400" cy="324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tretch/>
        </p:blipFill>
        <p:spPr>
          <a:xfrm>
            <a:off x="380880" y="2666880"/>
            <a:ext cx="2973600" cy="533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2160720" cy="304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4"/>
          <a:stretch/>
        </p:blipFill>
        <p:spPr>
          <a:xfrm>
            <a:off x="304920" y="4419720"/>
            <a:ext cx="3938400" cy="8618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"/>
          <p:cNvPicPr/>
          <p:nvPr/>
        </p:nvPicPr>
        <p:blipFill>
          <a:blip r:embed="rId5"/>
          <a:stretch/>
        </p:blipFill>
        <p:spPr>
          <a:xfrm>
            <a:off x="304920" y="5504040"/>
            <a:ext cx="3429000" cy="938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"/>
          <p:cNvPicPr/>
          <p:nvPr/>
        </p:nvPicPr>
        <p:blipFill>
          <a:blip r:embed="rId6"/>
          <a:stretch/>
        </p:blipFill>
        <p:spPr>
          <a:xfrm>
            <a:off x="5562720" y="1717560"/>
            <a:ext cx="3429000" cy="5796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"/>
          <p:cNvPicPr/>
          <p:nvPr/>
        </p:nvPicPr>
        <p:blipFill>
          <a:blip r:embed="rId7"/>
          <a:stretch/>
        </p:blipFill>
        <p:spPr>
          <a:xfrm>
            <a:off x="6324480" y="2438280"/>
            <a:ext cx="144792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"/>
          <p:cNvPicPr/>
          <p:nvPr/>
        </p:nvPicPr>
        <p:blipFill>
          <a:blip r:embed="rId8"/>
          <a:stretch/>
        </p:blipFill>
        <p:spPr>
          <a:xfrm>
            <a:off x="5440320" y="3733920"/>
            <a:ext cx="2898720" cy="1143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"/>
          <p:cNvPicPr/>
          <p:nvPr/>
        </p:nvPicPr>
        <p:blipFill>
          <a:blip r:embed="rId9"/>
          <a:stretch/>
        </p:blipFill>
        <p:spPr>
          <a:xfrm>
            <a:off x="4724280" y="5029200"/>
            <a:ext cx="4332240" cy="723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1" descr=""/>
          <p:cNvPicPr/>
          <p:nvPr/>
        </p:nvPicPr>
        <p:blipFill>
          <a:blip r:embed="rId10"/>
          <a:stretch/>
        </p:blipFill>
        <p:spPr>
          <a:xfrm>
            <a:off x="4800600" y="6095880"/>
            <a:ext cx="76212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5397480" cy="67896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3"/>
          <p:cNvSpPr/>
          <p:nvPr/>
        </p:nvSpPr>
        <p:spPr>
          <a:xfrm>
            <a:off x="8182080" y="61722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Co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4300560" cy="5410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0" y="609480"/>
            <a:ext cx="6494400" cy="5715000"/>
          </a:xfrm>
          <a:prstGeom prst="rect">
            <a:avLst/>
          </a:prstGeom>
          <a:ln w="0">
            <a:noFill/>
          </a:ln>
        </p:spPr>
      </p:pic>
      <p:sp>
        <p:nvSpPr>
          <p:cNvPr id="548" name="TextBox 3"/>
          <p:cNvSpPr/>
          <p:nvPr/>
        </p:nvSpPr>
        <p:spPr>
          <a:xfrm>
            <a:off x="8182080" y="61722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Co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Example 6-8 cont.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410080" cy="60595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4"/>
          <p:cNvSpPr/>
          <p:nvPr/>
        </p:nvSpPr>
        <p:spPr>
          <a:xfrm>
            <a:off x="8334360" y="64771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Co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Example 6-8 cont.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205760" cy="42670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38160" y="1855800"/>
            <a:ext cx="906768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araday’s Law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76320" y="1828800"/>
            <a:ext cx="441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Electromotive force (voltage) induced by time-varying magnetic flux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4191120" cy="826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7496280" cy="1428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3"/>
          <a:stretch/>
        </p:blipFill>
        <p:spPr>
          <a:xfrm>
            <a:off x="4513320" y="228600"/>
            <a:ext cx="4500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ree types of EMF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722160" y="1752480"/>
            <a:ext cx="7699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4263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w Cen MT"/>
              </a:rPr>
              <a:t>Stationary Loop in Time-Varying </a:t>
            </a:r>
            <a:r>
              <a:rPr b="1" lang="en-US" sz="3600" spc="-1" strike="noStrike">
                <a:solidFill>
                  <a:srgbClr val="1f497d"/>
                </a:solidFill>
                <a:latin typeface="Tw Cen MT"/>
              </a:rPr>
              <a:t>B</a:t>
            </a:r>
            <a:endParaRPr b="0" lang="en-US" sz="36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05360" cy="790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0" y="2666880"/>
            <a:ext cx="4984920" cy="1474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3"/>
          <a:stretch/>
        </p:blipFill>
        <p:spPr>
          <a:xfrm>
            <a:off x="5029200" y="1814400"/>
            <a:ext cx="4114800" cy="489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4"/>
          <a:stretch/>
        </p:blipFill>
        <p:spPr>
          <a:xfrm>
            <a:off x="0" y="4419720"/>
            <a:ext cx="5043600" cy="2438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5"/>
          <a:stretch/>
        </p:blipFill>
        <p:spPr>
          <a:xfrm>
            <a:off x="4179960" y="685800"/>
            <a:ext cx="496404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5338800" cy="350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5562720" cy="2668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3"/>
          <a:stretch/>
        </p:blipFill>
        <p:spPr>
          <a:xfrm>
            <a:off x="152280" y="2647800"/>
            <a:ext cx="5410440" cy="13161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8481240" y="647712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con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w Cen MT"/>
              </a:rPr>
              <a:t>Example 6-1 Solution</a:t>
            </a:r>
            <a:endParaRPr b="0" lang="en-US" sz="36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105520" y="0"/>
            <a:ext cx="3828960" cy="2514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0" y="914400"/>
            <a:ext cx="4691160" cy="4594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0" y="5816520"/>
            <a:ext cx="4572000" cy="1041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4605480" y="2666880"/>
            <a:ext cx="4538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0" y="190440"/>
            <a:ext cx="9064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4:30:33Z</dcterms:created>
  <dc:creator>jphilli</dc:creator>
  <dc:description/>
  <dc:language>en-US</dc:language>
  <cp:lastModifiedBy>User</cp:lastModifiedBy>
  <dcterms:modified xsi:type="dcterms:W3CDTF">2010-04-01T14:19:28Z</dcterms:modified>
  <cp:revision>93</cp:revision>
  <dc:subject/>
  <dc:title>EECS 215: Introduction to Circuits</dc:title>
</cp:coreProperties>
</file>